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011C-82E4-4801-B361-1941600E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CF15-F23D-4C80-B78C-A3D84E2FE9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9E1-C0C6-411A-8A73-AA3BB48B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BB5-30BD-4207-8148-CAE8EB0F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EDF-3111-4426-AAEA-8990897D3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FAA-1099-4945-B35D-4D606949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C59D0-E3B0-4613-9C21-C1C00106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C79D-2645-4722-9AB2-97686948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1937-5A6D-4B5E-A2A2-3B53F09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D69E-A915-4107-8218-EADC3DDC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12CD-CB98-457E-8B88-22B3CE4C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D683-04CA-4E22-8878-E0FA7A8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CC8C-35C8-4720-9D84-97616B3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F0D-BF39-49E1-A63E-1D2090F7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EE97-0829-4FBF-BEC2-1B920D5D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4EEE-021C-4B65-A3F8-B5D67E18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000-09C0-4100-8E86-916420EB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832E1-4240-414C-8142-59243491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AE43-4AE4-4C40-A1BF-22CBA0E98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DB4-B78E-450F-A594-9CA4FB62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E7FA-B2B9-49E0-982F-5E44CCD2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F8E-75C3-44E7-94C3-8EBE899E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15C-0834-4139-B69C-9735C6C8A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7F2-BAEB-41D9-A323-BB5F4787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3721-A10D-4AFD-9D9D-04D5808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934-DA03-4780-A50A-1A8433E6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67D5-E377-4376-8DCF-B9B00C04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8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E64-0EFE-4C3E-9418-42A039D7A753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pabook.libraries.psu.edu/familylit/FFN/workshop1/Furry_anno.html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086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cc17"/>
                </a:solidFill>
                <a:latin typeface="Arial"/>
              </a:rPr>
              <a:t>Jerry Pallota, The Alpahbet Man </a:t>
            </a:r>
            <a:endParaRPr b="1" lang="en-US" sz="32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4876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cc17"/>
                </a:solidFill>
                <a:latin typeface="Tahoma"/>
              </a:rPr>
              <a:t>On May 24</a:t>
            </a:r>
            <a:r>
              <a:rPr b="0" lang="en-US" sz="2000" spc="-1" strike="noStrike" baseline="30000">
                <a:solidFill>
                  <a:srgbClr val="f7cc17"/>
                </a:solidFill>
                <a:latin typeface="Tahoma"/>
              </a:rPr>
              <a:t>th</a:t>
            </a:r>
            <a:r>
              <a:rPr b="0" lang="en-US" sz="2000" spc="-1" strike="noStrike">
                <a:solidFill>
                  <a:srgbClr val="f7cc17"/>
                </a:solidFill>
                <a:latin typeface="Tahoma"/>
              </a:rPr>
              <a:t>, our school will be visited by author Jerry Pallota. He has the name of Alphabet Man because he is known for writing alphabet book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4" descr="Pallotta2"/>
          <p:cNvPicPr/>
          <p:nvPr/>
        </p:nvPicPr>
        <p:blipFill>
          <a:blip r:embed="rId1"/>
          <a:stretch/>
        </p:blipFill>
        <p:spPr>
          <a:xfrm>
            <a:off x="3124080" y="2057400"/>
            <a:ext cx="33339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2" descr="http://lh6.ggpht.com/_SD_b4RbCWSI/RsJRBhB5tfI/AAAAAAAAAb4/o2ZFCDQ_cl0/DSCF3824.JPG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http://lh4.ggpht.com/_SD_b4RbCWSI/RsJRaBB5twI/AAAAAAAAAeE/C7Z0P4TUCOw/DSCF3846.JPG"/>
          <p:cNvPicPr/>
          <p:nvPr/>
        </p:nvPicPr>
        <p:blipFill>
          <a:blip r:embed="rId1"/>
          <a:stretch/>
        </p:blipFill>
        <p:spPr>
          <a:xfrm>
            <a:off x="76320" y="-182520"/>
            <a:ext cx="407664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Many Books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rry has written some 39 alphabet book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 are a few of his tit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4" descr="DinoAlpha"/>
          <p:cNvPicPr/>
          <p:nvPr/>
        </p:nvPicPr>
        <p:blipFill>
          <a:blip r:embed="rId1"/>
          <a:stretch/>
        </p:blipFill>
        <p:spPr>
          <a:xfrm>
            <a:off x="6019920" y="3809880"/>
            <a:ext cx="2917800" cy="2381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pabook.libraries.psu.edu/familylit/images/FurryAnim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24080" y="3809880"/>
            <a:ext cx="2835360" cy="23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ttp://www.lookingglassreview.com/assets/images/The_vegetable_Alphabet_Book.jpg"/>
          <p:cNvPicPr/>
          <p:nvPr/>
        </p:nvPicPr>
        <p:blipFill>
          <a:blip r:embed="rId4"/>
          <a:stretch/>
        </p:blipFill>
        <p:spPr>
          <a:xfrm>
            <a:off x="152280" y="3886200"/>
            <a:ext cx="280836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http://ecx.images-amazon.com/images/I/51SFZVBNEQL._SL500_.jpg"/>
          <p:cNvPicPr/>
          <p:nvPr/>
        </p:nvPicPr>
        <p:blipFill>
          <a:blip r:embed="rId5"/>
          <a:stretch/>
        </p:blipFill>
        <p:spPr>
          <a:xfrm>
            <a:off x="3124080" y="3809880"/>
            <a:ext cx="2783160" cy="2395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http://www.educationworld.com/a_books/images/boat_abc.jpg"/>
          <p:cNvPicPr/>
          <p:nvPr/>
        </p:nvPicPr>
        <p:blipFill>
          <a:blip r:embed="rId6"/>
          <a:stretch/>
        </p:blipFill>
        <p:spPr>
          <a:xfrm>
            <a:off x="152280" y="388620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ttp://www.syndetics.com/index.aspx?type=xw12&amp;isbn=9780881064605/LC.GIF&amp;client=loudp"/>
          <p:cNvPicPr/>
          <p:nvPr/>
        </p:nvPicPr>
        <p:blipFill>
          <a:blip r:embed="rId7"/>
          <a:stretch/>
        </p:blipFill>
        <p:spPr>
          <a:xfrm>
            <a:off x="5943600" y="3809880"/>
            <a:ext cx="306864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53352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Books with  math topics  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http://www.kidsbooks4less.com/picturebooks/twizzlers.jpg"/>
          <p:cNvPicPr/>
          <p:nvPr/>
        </p:nvPicPr>
        <p:blipFill>
          <a:blip r:embed="rId1"/>
          <a:stretch/>
        </p:blipFill>
        <p:spPr>
          <a:xfrm>
            <a:off x="3048120" y="3352680"/>
            <a:ext cx="2595600" cy="217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http://blog.richmond.edu/openwidelookinside/files/2009/07/hersheybarfractions.jpg"/>
          <p:cNvPicPr/>
          <p:nvPr/>
        </p:nvPicPr>
        <p:blipFill>
          <a:blip r:embed="rId2"/>
          <a:stretch/>
        </p:blipFill>
        <p:spPr>
          <a:xfrm>
            <a:off x="6095880" y="3200400"/>
            <a:ext cx="2765520" cy="2322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http://img.fkcdn.com/img/241/9780613357241.jpg"/>
          <p:cNvPicPr/>
          <p:nvPr/>
        </p:nvPicPr>
        <p:blipFill>
          <a:blip r:embed="rId3"/>
          <a:stretch/>
        </p:blipFill>
        <p:spPr>
          <a:xfrm>
            <a:off x="382680" y="3276720"/>
            <a:ext cx="1960560" cy="1685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http://images.alibris.com/isbn/9780439357968.gif"/>
          <p:cNvPicPr/>
          <p:nvPr/>
        </p:nvPicPr>
        <p:blipFill>
          <a:blip r:embed="rId4"/>
          <a:stretch/>
        </p:blipFill>
        <p:spPr>
          <a:xfrm>
            <a:off x="380880" y="685800"/>
            <a:ext cx="1781280" cy="1609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http://images.swaptree.com/images/books/75/0439388775.jpg"/>
          <p:cNvPicPr/>
          <p:nvPr/>
        </p:nvPicPr>
        <p:blipFill>
          <a:blip r:embed="rId5"/>
          <a:stretch/>
        </p:blipFill>
        <p:spPr>
          <a:xfrm>
            <a:off x="4191120" y="4191120"/>
            <a:ext cx="28000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pic>
        <p:nvPicPr>
          <p:cNvPr id="110" name="Picture 9" descr="http://img.infibeam.com/img/342d064b/701/2/9780613512701.jpg"/>
          <p:cNvPicPr/>
          <p:nvPr/>
        </p:nvPicPr>
        <p:blipFill>
          <a:blip r:embed="rId1"/>
          <a:stretch/>
        </p:blipFill>
        <p:spPr>
          <a:xfrm>
            <a:off x="762120" y="2438280"/>
            <a:ext cx="2857320" cy="2200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2" descr="http://cdn.overstock.com/images/products/muze/books/0881064963.jpg"/>
          <p:cNvPicPr/>
          <p:nvPr/>
        </p:nvPicPr>
        <p:blipFill>
          <a:blip r:embed="rId2"/>
          <a:stretch/>
        </p:blipFill>
        <p:spPr>
          <a:xfrm>
            <a:off x="3962520" y="2819520"/>
            <a:ext cx="2895480" cy="2352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img.fkcdn.com/img/013/9780439389013.jpg"/>
          <p:cNvPicPr/>
          <p:nvPr/>
        </p:nvPicPr>
        <p:blipFill>
          <a:blip r:embed="rId3"/>
          <a:stretch/>
        </p:blipFill>
        <p:spPr>
          <a:xfrm>
            <a:off x="7238880" y="320040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Book cover for The Crayon Counting Book"/>
          <p:cNvPicPr/>
          <p:nvPr/>
        </p:nvPicPr>
        <p:blipFill>
          <a:blip r:embed="rId4"/>
          <a:stretch/>
        </p:blipFill>
        <p:spPr>
          <a:xfrm>
            <a:off x="685800" y="4724280"/>
            <a:ext cx="2028960" cy="1524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From Addition to Multiplication"/>
          <p:cNvPicPr/>
          <p:nvPr/>
        </p:nvPicPr>
        <p:blipFill>
          <a:blip r:embed="rId5"/>
          <a:stretch/>
        </p:blipFill>
        <p:spPr>
          <a:xfrm>
            <a:off x="7086600" y="5105520"/>
            <a:ext cx="1371600" cy="1504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http://imshopping.rediff.com/imgchkbooks/75-100/books/pixs/01/0439560101.jpg"/>
          <p:cNvPicPr/>
          <p:nvPr/>
        </p:nvPicPr>
        <p:blipFill>
          <a:blip r:embed="rId6"/>
          <a:stretch/>
        </p:blipFill>
        <p:spPr>
          <a:xfrm>
            <a:off x="4114800" y="5486400"/>
            <a:ext cx="14763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2" descr="http://img.infibeam.com/img/5583bc60/218/5/9780439025218.jpg"/>
          <p:cNvPicPr/>
          <p:nvPr/>
        </p:nvPicPr>
        <p:blipFill>
          <a:blip r:embed="rId1"/>
          <a:stretch/>
        </p:blipFill>
        <p:spPr>
          <a:xfrm>
            <a:off x="228600" y="3352680"/>
            <a:ext cx="3147840" cy="2590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http://images.barnesandnoble.com/images/14600000/14601549.JPG"/>
          <p:cNvPicPr/>
          <p:nvPr/>
        </p:nvPicPr>
        <p:blipFill>
          <a:blip r:embed="rId2"/>
          <a:stretch/>
        </p:blipFill>
        <p:spPr>
          <a:xfrm>
            <a:off x="3666960" y="35053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lincoln.midcoast.com/~wps/jackson/alphabet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2" descr="http://imshopping.rediff.com/books/imagechek/books/pixs/9x/088106419x.jpg"/>
          <p:cNvPicPr/>
          <p:nvPr/>
        </p:nvPicPr>
        <p:blipFill>
          <a:blip r:embed="rId1"/>
          <a:stretch/>
        </p:blipFill>
        <p:spPr>
          <a:xfrm>
            <a:off x="228600" y="2362320"/>
            <a:ext cx="2638440" cy="2419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http://www.rcowen.com/images/MTAPallotta-ReadaZillionBooksres.jpg"/>
          <p:cNvPicPr/>
          <p:nvPr/>
        </p:nvPicPr>
        <p:blipFill>
          <a:blip r:embed="rId2"/>
          <a:stretch/>
        </p:blipFill>
        <p:spPr>
          <a:xfrm>
            <a:off x="990720" y="4952880"/>
            <a:ext cx="1038240" cy="1276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533520" y="6248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jerrypallotta.com/alphabetman_mybooks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http://thumbnail.image.rakuten.co.jp/@0_mall/book/cabinet/jan_9780439/9780439389174.jpg"/>
          <p:cNvPicPr/>
          <p:nvPr/>
        </p:nvPicPr>
        <p:blipFill>
          <a:blip r:embed="rId1"/>
          <a:stretch/>
        </p:blipFill>
        <p:spPr>
          <a:xfrm>
            <a:off x="4191120" y="1905120"/>
            <a:ext cx="3809880" cy="30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blog.richmond.edu/openwidelookinside/files/2009/07/dscn0015_edited.JPG"/>
          <p:cNvPicPr/>
          <p:nvPr/>
        </p:nvPicPr>
        <p:blipFill>
          <a:blip r:embed="rId2"/>
          <a:stretch/>
        </p:blipFill>
        <p:spPr>
          <a:xfrm>
            <a:off x="0" y="1371600"/>
            <a:ext cx="5635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http://www.magicsuitcase.ca/images/covers/190.jpg"/>
          <p:cNvPicPr/>
          <p:nvPr/>
        </p:nvPicPr>
        <p:blipFill>
          <a:blip r:embed="rId1"/>
          <a:stretch/>
        </p:blipFill>
        <p:spPr>
          <a:xfrm>
            <a:off x="1600200" y="2590920"/>
            <a:ext cx="14288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05:24:42Z</dcterms:created>
  <dc:creator>Joanna Marinelli</dc:creator>
  <dc:description/>
  <cp:keywords/>
  <dc:language>en-US</dc:language>
  <cp:lastModifiedBy>Debbie</cp:lastModifiedBy>
  <dcterms:modified xsi:type="dcterms:W3CDTF">2010-04-19T11:45:14Z</dcterms:modified>
  <cp:revision>7</cp:revision>
  <dc:subject/>
  <dc:title>Data Collection  facts, statistics, or items of 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33</vt:lpwstr>
  </property>
</Properties>
</file>